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CC4C-3185-4F22-9375-A05664FA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1CA-52C5-4F28-9EC3-46532E09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631-5DA1-4CB6-8E9B-6B1B5706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03F-B66C-4CB0-8DF7-2E74700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AD3-865C-4012-8AA0-CDB2EBDA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3EA-7CCD-4C50-88E7-9D24B14C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45F-2B4F-4382-B02F-40517A4B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889-F084-42D5-8124-79EBE1E5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B05-EB43-437B-8E4D-DFB24AE3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41F-B3B0-4C09-B392-653C1F53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9B8-5B2A-47F9-8D93-EE08739C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403-5B78-4B8E-BB74-1B94EFD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A12-595A-40CA-A619-C7AEAF0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9D1-9012-46E9-ADCA-4939AC6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D1E-E162-4C35-A175-E1F81D51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87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75248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en los extraño much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jecto y estoy con mis hermanos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comer con mi famili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057400" y="182880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6T14:57:23Z</dcterms:modified>
  <cp:revision>110</cp:revision>
  <dc:subject/>
  <dc:title>Profile</dc:title>
</cp:coreProperties>
</file>